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9F2-6745-45B8-9A1A-CB48EE73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1E6-74D6-4E7E-8DF5-2DF5743C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51B-D631-4CB6-8972-5701C4B4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EC1-4047-44BC-9E46-C726AB78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98D2-6577-43B0-B856-E21E7BA0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5407-C722-4DBF-8EB8-E07C326E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94E7-629E-4C02-9A32-43B0A0F4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0C86-31C7-4EB0-A39C-33E39684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57A6-11B2-4000-99D0-A180183A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8AFC-EBC1-440A-B421-0860467C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3E77-AE1E-401D-80A6-D55536B2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280-A88C-4237-BF54-7DE2A6AF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246F-2A24-4DC3-82B3-10864797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E2FC-229E-445F-8471-B8C467DA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3E01-68EF-44C4-A752-3A740512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C5B3-3D16-400D-A5D2-E930A7F9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8202-C7C3-4991-B519-5D8338CD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DC7A-6B4F-41BA-9432-80720503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3FA-C420-419B-9E07-81B61BCB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398-CE60-4B44-8017-74A67BE6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06E-EBAC-4D64-BE5D-4C542354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9DA-8462-4F93-B857-C010FE74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F69-6759-43A7-BBEF-45565182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B63-1BE7-46A3-B0A5-50F252BD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Users\Alex\Desktop\Send Back to FTP\LO banner art\BIO10NAE_18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F084-A74B-4BD0-B320-4363267E6F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7E2C-6EC9-4141-946B-7DED36143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the Tree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:\Users\Alex\Desktop\Send Back to FTP\LO banner art\BIO10NAE_18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the Tree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Alex\Desktop\Send Back to FTP\LO banner art\BIO10NAE_28_LOT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lex\Desktop\Send Back to FTP\LO banner art\BIO10NAE_01_LOT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202E-010E-4D2A-B9D7-A7143C3435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CC48-6674-4DEF-AC61-F30062256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:\Users\Alex\Desktop\Send Back to FTP\LO stills - splash screens\BIO10NAE_24_CTBG.jpg"/>
          <p:cNvPicPr/>
          <p:nvPr/>
        </p:nvPicPr>
        <p:blipFill>
          <a:blip r:embed="rId1"/>
          <a:stretch/>
        </p:blipFill>
        <p:spPr>
          <a:xfrm>
            <a:off x="228600" y="198360"/>
            <a:ext cx="4954680" cy="6354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81120" y="21333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Arial"/>
                <a:ea typeface="Arial"/>
              </a:rPr>
              <a:t>Lesson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8840" y="3219480"/>
            <a:ext cx="426708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.3 Building the Tree of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Six Kingdo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y the 1990s, researchers had learned that the organisms in kingdom Monera were actually two genetically and biochemically different group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Six Kingdo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Users\Alex\Desktop\Batch 4\Art\Art 3_18_09+\BIO10NAE_05_18_04_005_LRIM_01.png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2828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onerans were placed in two kingdoms—Eubacteria and Archaebacte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 are now six kingdo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Three Doma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tic analysis has revealed that the two main prokaryotic kingdoms are more different from each other, and from eukaryotes, than previously thought. So, biologists established a new taxonomic category—the doma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 larger, more inclusive category than a kingd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 this system, there are three domains—domain Bacteria (corresponding to kingdom Eubacteria), domain Archaea (corresponding to kingdom Archaebacteria), and domain Eukarya (corresponding to kingdoms Fungi, Plantae, Animalia, and kingdom Protist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Three Doma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Alex\Desktop\Batch 4\Art\Art 3_18_09+\BIO10NAE_05_18_04_005_LRIM_02.png"/>
          <p:cNvPicPr/>
          <p:nvPr/>
        </p:nvPicPr>
        <p:blipFill>
          <a:blip r:embed="rId1"/>
          <a:stretch/>
        </p:blipFill>
        <p:spPr>
          <a:xfrm>
            <a:off x="-1295280" y="1905120"/>
            <a:ext cx="11850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The Tree of All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dern evolutionary classification is a rapidly changing science with the difficult goal of presenting all life on a single phylogenetic tr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ree of life shows current hypotheses regarding evolutionary relationships among the taxa within the three doma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The Tree of All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lex\Desktop\Batch 4\Art\Art 3_18_09+\BIO10NAE_05_18_04_005_LRIM_03.pn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Domain Bacteria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of the dom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ter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unicellular and prokaryotic. This domain corresponds to the kingdom Eubacte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ir cells have thick, rigid walls that surround a cell membrane and contain a substance known as peptidoglyc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bacteria are ecologically diverse, ranging from free-living soil organisms to deadly parasit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photosynthesize, while others do n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need oxygen to survive, while others are killed by oxyg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Domain Archaea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omain Archaea corresponds to the kingdom Archaebacte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of the dom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chae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unicellular and prokaryotic, and they live in some extreme environments—in volcanic hot springs, brine pools, and black organic mud totally devoid of oxyg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y of these bacteria can survive only in the absence of oxyg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ir cell walls lack peptidoglycan, and their cell membranes contain unusual lipids that are not found in any other organis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Domain Eukarya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ukary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ists of all organisms that have a nucle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comprises the four remaining kingdoms of the six-kingdom system: Protista, Fungi, Plantae, and Animal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The Protists: Unicellular Eukaryot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kingdom Protista has long been viewed by biologists as a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tchal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roup of eukaryotes that could not be classified as fungi, plants, or anim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Bell Ri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chromosomes are scientists able to track mutations in to determine human family lineages? Where is this chromosome f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The </a:t>
            </a:r>
            <a:r>
              <a:rPr b="1" lang="ja-JP" sz="3200" spc="-1" strike="noStrike">
                <a:solidFill>
                  <a:srgbClr val="3366ff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Protists</a:t>
            </a:r>
            <a:r>
              <a:rPr b="1" lang="ja-JP" sz="3200" spc="-1" strike="noStrike">
                <a:solidFill>
                  <a:srgbClr val="3366ff"/>
                </a:solidFill>
                <a:latin typeface="Arial"/>
                <a:ea typeface="Arial"/>
              </a:rPr>
              <a:t>”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: Unicellular Eukaryo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 protists are unicellular, but one group, the brown algae, is multicellu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protists are photosynthetic, while others are heterotrophi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display characters that resemble those of fungi, plants, or anima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Fungi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of the kingdom Fungi are heterotrophs with cell walls containing chit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fungi feed on dead or decaying organic matt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ecrete digestive enzymes into their food source, which break the food down into smaller molecu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ungi then absorb these smaller molecules into their bod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hrooms and other recognizable fungi are multicell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fungi—yeasts, for example—are unicell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Plantae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of the kingdom Plantae are multicellular, have cell walls that contain cellulose, and are autotroph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trophic plants are able to carry on photosynthesis using chlorophyl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ts are nonmotile—they cannot move from place to pla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ntire plant kingdom is the sister group to the red algae, which ar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ists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plant kingdom, therefore, includes the green algae along with mosses, ferns, cone-bearing plants, and flowering pl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Animalia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of the kingdom Animalia are multicellular and heterotroph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imal cells do not have cell wa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animals can move about, at least for some part of their life cyc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incredible diversity within the animal kingdom, and many species of animals exist in nearly every part of the plan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Daily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 the six kingdoms of life as they are now identif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ain what the tree of life repres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INK ABOUT IT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Not on notes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cess of identifying and naming all known organisms, both living and extinct, is a huge first step toward the goal of systemat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al challenge, however, is to group everything—from bacteria to dinosaurs to blue whales—in a way that reflects their evolutionary relationship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 the years, new information and new ways of studying organisms have produced major changes in Linnaeu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original scheme for organizing living th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Changing Ideas About Kingd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ing Linnaeu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time, living things were classified as either an animal or as a pla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imals were organisms that moved from place to place and ate food for their energ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ts were green organisms that generally did not move and got their energy from the su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Changing Ideas About Kingd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biologists learned more about the natural world, they realized that Linnaeu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two kingdoms—Animalia and Plantae—did not reflect the full diversity of li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ification systems have changed dramatically since Linnaeu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time, and hypotheses about relationships among organisms are still changing today as new data is coll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Changing Ideas About Kingd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5345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diagram shows some of the ways in which organisms have been classified into kingdoms since the 1700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Alex\Desktop\Batch 4\Art\Art 3_18_09+\BIO10NAE_05_18_04_005_LRIM_01.png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Five Kingdo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first, all microorganisms were placed in their own kingdom, named Protis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ter, yeasts, molds, and mushrooms, were placed in their own kingdom, Fung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ientists then realized that bacteria lack a nucleus so they were placed in another new kingdom, Moner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-celled eukaryotic organisms remained in the kingdom Protist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Five Kingdo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process produced five kingdoms: Monera, Protista, Fungi, Plantae, and Animal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Alex\Desktop\Batch 4\Art\Art 3_18_09+\BIO10NAE_05_18_04_005_LRIM_01.png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0:20:54Z</dcterms:created>
  <dc:creator>Alex</dc:creator>
  <dc:description/>
  <dc:language>en-US</dc:language>
  <cp:lastModifiedBy>dzahm</cp:lastModifiedBy>
  <dcterms:modified xsi:type="dcterms:W3CDTF">2013-12-03T19:13:29Z</dcterms:modified>
  <cp:revision>239</cp:revision>
  <dc:subject/>
  <dc:title>Slide 1</dc:title>
</cp:coreProperties>
</file>